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E97CA-D767-42CF-AA14-F602D27C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18F47-57DE-4610-909B-96684302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72CF3-8465-4969-82BE-2DD742C2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5FA70-E656-4C98-9D05-3D42C309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AEF5-79FC-4512-ABDB-1938071F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8D61-A09A-4985-9DBE-088FA7BF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5B34-397F-4ED0-AF2B-17EA9EAC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CBD9-A61C-489A-9494-FD4C92CA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BA78-F96B-41E0-A018-D69A7A11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D487-FA8C-4E09-A14D-A4942F9B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3A71-EA7C-4793-9E48-DB6193D2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903E4-B463-4CAB-B9A2-5A4FBC0F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8F73-F241-4309-9E2A-AA4EBC71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D334-1016-43D7-BF2E-3E412F02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B2F4-705B-4A1F-B029-800053E6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4ACF-8BEB-4D10-9C37-B5C567C7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A3AE-9420-4660-99DD-ECBD52DE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3391A-9232-4878-A099-A0F87326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B5B7D-0386-4848-A58A-25E88D16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574EB-DFAE-4162-92AB-294D5ADF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EC389-6208-4F15-87C4-A31D8CB4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95C9F-DA88-4C91-AEDF-44397203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CC0FC-B6D1-4CFD-89C2-F04EC051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823EA-AE78-46B8-8594-AEB5F407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1DA1-0805-4BAD-AADC-8E204685EB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0A89-5978-4399-82F6-385F9A6B0B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g.purdue.edu/extension/eden/Winter%20Gallery/Scrub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Wacky Winter Storm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y: Eboni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anuariu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rew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osh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Snowflake"/>
          <p:cNvPicPr/>
          <p:nvPr/>
        </p:nvPicPr>
        <p:blipFill>
          <a:blip r:embed="rId1"/>
          <a:stretch/>
        </p:blipFill>
        <p:spPr>
          <a:xfrm>
            <a:off x="5867280" y="3809880"/>
            <a:ext cx="22100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hat Are Winter Storms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winter storm is a bunch of snow that can take a power pole d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Ice Storm"/>
          <p:cNvPicPr/>
          <p:nvPr/>
        </p:nvPicPr>
        <p:blipFill>
          <a:blip r:embed="rId1"/>
          <a:stretch/>
        </p:blipFill>
        <p:spPr>
          <a:xfrm>
            <a:off x="2514600" y="3200400"/>
            <a:ext cx="41148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How Are Winter Storms Formed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ter Storms derive there energy from the clash was recored of two different masses of New York and New Jers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forest scru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3429000"/>
            <a:ext cx="45720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ow Strong Are Winter Storms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izzards are the strongest winter storms. A blizzard is long lasting snow storm with very strong winds and intense snowf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819520" y="3657600"/>
            <a:ext cx="380988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at Effects  Do Winter Storms Have On Us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owfall of 40 to 50 inches was racored over New Jersey New York Massachusets and connecticut as sustained winds created drifts as much as 50 feet t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666880" y="3352680"/>
            <a:ext cx="396252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hen Do Winter Storms Occur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the winter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Windchill"/>
          <p:cNvPicPr/>
          <p:nvPr/>
        </p:nvPicPr>
        <p:blipFill>
          <a:blip r:embed="rId1"/>
          <a:stretch/>
        </p:blipFill>
        <p:spPr>
          <a:xfrm>
            <a:off x="2743200" y="2743200"/>
            <a:ext cx="29718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5:44:46Z</dcterms:created>
  <dc:creator>Neo</dc:creator>
  <dc:description/>
  <dc:language>en-US</dc:language>
  <cp:lastModifiedBy>Neo</cp:lastModifiedBy>
  <dcterms:modified xsi:type="dcterms:W3CDTF">2010-02-03T17:32:18Z</dcterms:modified>
  <cp:revision>4</cp:revision>
  <dc:subject/>
  <dc:title>Wacky Winter Storms</dc:title>
</cp:coreProperties>
</file>